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gif" ContentType="image/gif"/>
  <Override PartName="/ppt/media/chimes.wav" ContentType="audio/x-wav"/>
  <Override PartName="/ppt/media/push.wav" ContentType="audio/x-wav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FCAFD-0985-4508-B98A-63629F89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8B4D3-F6E3-4572-AFC4-9E48F38C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688BB-709D-46EB-8EE0-DB1A888A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64B3B-97C2-4F77-9982-BDD70A44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9CDF-F0A0-45F6-A995-3CC182AE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75F9-3110-48BF-940F-E1477401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B0E5-F624-468F-80B8-39B17BDE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4EB0-14CA-4D19-89EE-425B61F0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73E1-EF22-4213-BFF1-8CA06F52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621C-1086-4640-B3F4-1E35E5CB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AEE7-E1A8-4D49-BCC9-B2E2A6BD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145B-9F6B-4797-8132-CAD9BAA5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85BB-16D1-40F8-A3AC-327099E4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E4F5-1DA2-42C3-B65E-238D1386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2FAD-DF11-4998-A0EB-6276F528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66A0-5F2B-4AC3-80F4-FE4EB0AC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1A13-155C-4BDB-A509-F3171865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0B67-DDAD-4EF3-B5CC-E68A205A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13758-C7EF-4A84-AD37-A89512B5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533BD-C2BF-4F9C-B28F-432B7C87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F9093-B9FC-4F86-AE00-A3AF4E14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3A77F-A54B-41B1-9FF9-0D1EBA20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F1BF-5D0F-4AA4-BD5F-B167D376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8AF0B-D0CD-40F0-998D-BE6A95F7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5EBB-87AA-487F-AF64-532DBA06F33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8991-24AD-48D5-B80A-BAB1E2BB23F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hyperlink" Target="file:///tmp/home/.config/libreoffice/4/user/gallery/whoosh.wav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7.gif"/><Relationship Id="rId7" Type="http://schemas.openxmlformats.org/officeDocument/2006/relationships/hyperlink" Target="file:///tmp/home/.config/libreoffice/4/user/gallery/whoosh.wav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gif"/><Relationship Id="rId15" Type="http://schemas.openxmlformats.org/officeDocument/2006/relationships/hyperlink" Target="file:///tmp/home/.config/libreoffice/4/user/gallery/whoosh.wav" TargetMode="External"/><Relationship Id="rId16" Type="http://schemas.openxmlformats.org/officeDocument/2006/relationships/image" Target="../media/image3.png"/><Relationship Id="rId17" Type="http://schemas.openxmlformats.org/officeDocument/2006/relationships/audio" Target="../media/chimes.wav"/><Relationship Id="rId18" Type="http://schemas.openxmlformats.org/officeDocument/2006/relationships/audio" Target="../media/push.wav"/><Relationship Id="rId19" Type="http://schemas.openxmlformats.org/officeDocument/2006/relationships/audio" Target="../media/push.wav"/><Relationship Id="rId20" Type="http://schemas.openxmlformats.org/officeDocument/2006/relationships/audio" Target="../media/push.wav"/><Relationship Id="rId21" Type="http://schemas.openxmlformats.org/officeDocument/2006/relationships/audio" Target="../media/push.wav"/><Relationship Id="rId22" Type="http://schemas.openxmlformats.org/officeDocument/2006/relationships/audio" Target="../media/push.wav"/><Relationship Id="rId23" Type="http://schemas.openxmlformats.org/officeDocument/2006/relationships/audio" Target="../media/push.wav"/><Relationship Id="rId24" Type="http://schemas.openxmlformats.org/officeDocument/2006/relationships/audio" Target="../media/push.wav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7.gif"/><Relationship Id="rId11" Type="http://schemas.openxmlformats.org/officeDocument/2006/relationships/hyperlink" Target="file:///tmp/home/.config/libreoffice/4/user/gallery/whoosh.wav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3.png"/><Relationship Id="rId17" Type="http://schemas.openxmlformats.org/officeDocument/2006/relationships/audio" Target="../media/push.wav"/><Relationship Id="rId18" Type="http://schemas.openxmlformats.org/officeDocument/2006/relationships/audio" Target="../media/push.wav"/><Relationship Id="rId19" Type="http://schemas.openxmlformats.org/officeDocument/2006/relationships/audio" Target="../media/push.wav"/><Relationship Id="rId20" Type="http://schemas.openxmlformats.org/officeDocument/2006/relationships/audio" Target="../media/push.wav"/><Relationship Id="rId21" Type="http://schemas.openxmlformats.org/officeDocument/2006/relationships/audio" Target="../media/push.wav"/><Relationship Id="rId22" Type="http://schemas.openxmlformats.org/officeDocument/2006/relationships/audio" Target="../media/push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7.gif"/><Relationship Id="rId11" Type="http://schemas.openxmlformats.org/officeDocument/2006/relationships/hyperlink" Target="file:///tmp/home/.config/libreoffice/4/user/gallery/whoosh.wav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3.png"/><Relationship Id="rId17" Type="http://schemas.openxmlformats.org/officeDocument/2006/relationships/audio" Target="../media/push.wav"/><Relationship Id="rId18" Type="http://schemas.openxmlformats.org/officeDocument/2006/relationships/audio" Target="../media/push.wav"/><Relationship Id="rId19" Type="http://schemas.openxmlformats.org/officeDocument/2006/relationships/audio" Target="../media/push.wav"/><Relationship Id="rId20" Type="http://schemas.openxmlformats.org/officeDocument/2006/relationships/audio" Target="../media/push.wav"/><Relationship Id="rId21" Type="http://schemas.openxmlformats.org/officeDocument/2006/relationships/audio" Target="../media/push.wav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7.gif"/><Relationship Id="rId11" Type="http://schemas.openxmlformats.org/officeDocument/2006/relationships/hyperlink" Target="file:///tmp/home/.config/libreoffice/4/user/gallery/whoosh.wav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3.png"/><Relationship Id="rId17" Type="http://schemas.openxmlformats.org/officeDocument/2006/relationships/audio" Target="../media/push.wav"/><Relationship Id="rId18" Type="http://schemas.openxmlformats.org/officeDocument/2006/relationships/audio" Target="../media/push.wav"/><Relationship Id="rId19" Type="http://schemas.openxmlformats.org/officeDocument/2006/relationships/audio" Target="../media/push.wav"/><Relationship Id="rId20" Type="http://schemas.openxmlformats.org/officeDocument/2006/relationships/audio" Target="../media/chimes.wav"/><Relationship Id="rId21" Type="http://schemas.openxmlformats.org/officeDocument/2006/relationships/audio" Target="../media/push.wav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7.gif"/><Relationship Id="rId11" Type="http://schemas.openxmlformats.org/officeDocument/2006/relationships/hyperlink" Target="file:///tmp/home/.config/libreoffice/4/user/gallery/whoosh.wav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3.png"/><Relationship Id="rId17" Type="http://schemas.openxmlformats.org/officeDocument/2006/relationships/audio" Target="../media/push.wav"/><Relationship Id="rId18" Type="http://schemas.openxmlformats.org/officeDocument/2006/relationships/audio" Target="../media/push.wav"/><Relationship Id="rId19" Type="http://schemas.openxmlformats.org/officeDocument/2006/relationships/audio" Target="../media/push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7.gif"/><Relationship Id="rId11" Type="http://schemas.openxmlformats.org/officeDocument/2006/relationships/hyperlink" Target="file:///tmp/home/.config/libreoffice/4/user/gallery/whoosh.wav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3.png"/><Relationship Id="rId17" Type="http://schemas.openxmlformats.org/officeDocument/2006/relationships/audio" Target="../media/push.wav"/><Relationship Id="rId18" Type="http://schemas.openxmlformats.org/officeDocument/2006/relationships/audio" Target="../media/push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7.gif"/><Relationship Id="rId11" Type="http://schemas.openxmlformats.org/officeDocument/2006/relationships/hyperlink" Target="file:///tmp/home/.config/libreoffice/4/user/gallery/whoosh.wav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3.png"/><Relationship Id="rId17" Type="http://schemas.openxmlformats.org/officeDocument/2006/relationships/audio" Target="../media/push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7.gif"/><Relationship Id="rId11" Type="http://schemas.openxmlformats.org/officeDocument/2006/relationships/hyperlink" Target="file:///tmp/home/.config/libreoffice/4/user/gallery/whoosh.wav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3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44080" cy="6257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066680" y="609480"/>
            <a:ext cx="7286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JUTĂ LA ÎMPODOBIREA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RADULUI DE CRĂCIUN !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>
            <a:hlinkClick r:id="" action="ppaction://hlinkshowjump?jump=nextslide"/>
            <a:hlinkClick r:id="rId7"/>
          </p:cNvPr>
          <p:cNvSpPr/>
          <p:nvPr/>
        </p:nvSpPr>
        <p:spPr>
          <a:xfrm>
            <a:off x="7162920" y="5638680"/>
            <a:ext cx="1676160" cy="914400"/>
          </a:xfrm>
          <a:custGeom>
            <a:avLst/>
            <a:gdLst>
              <a:gd name="textAreaLeft" fmla="*/ 59040 w 1676160"/>
              <a:gd name="textAreaRight" fmla="*/ 1617120 w 1676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87" h="21600">
                <a:moveTo>
                  <a:pt x="0" y="0"/>
                </a:moveTo>
                <a:lnTo>
                  <a:pt x="39587" y="0"/>
                </a:lnTo>
                <a:lnTo>
                  <a:pt x="39587" y="21600"/>
                </a:lnTo>
                <a:lnTo>
                  <a:pt x="0" y="21600"/>
                </a:lnTo>
                <a:close/>
              </a:path>
              <a:path fill="lightenLess" w="39587" h="21600">
                <a:moveTo>
                  <a:pt x="0" y="0"/>
                </a:moveTo>
                <a:lnTo>
                  <a:pt x="39587" y="0"/>
                </a:lnTo>
                <a:lnTo>
                  <a:pt x="38187" y="1400"/>
                </a:lnTo>
                <a:lnTo>
                  <a:pt x="1400" y="1400"/>
                </a:lnTo>
                <a:close/>
              </a:path>
              <a:path fill="darken" w="39587" h="21600">
                <a:moveTo>
                  <a:pt x="39587" y="0"/>
                </a:moveTo>
                <a:lnTo>
                  <a:pt x="39587" y="21600"/>
                </a:lnTo>
                <a:lnTo>
                  <a:pt x="38187" y="20200"/>
                </a:lnTo>
                <a:lnTo>
                  <a:pt x="38187" y="1400"/>
                </a:lnTo>
                <a:close/>
              </a:path>
              <a:path fill="darkenLess" w="39587" h="21600">
                <a:moveTo>
                  <a:pt x="39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7" y="20200"/>
                </a:lnTo>
                <a:close/>
              </a:path>
              <a:path fill="lighten" w="39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7" h="21600">
                <a:moveTo>
                  <a:pt x="12787" y="3794"/>
                </a:moveTo>
                <a:lnTo>
                  <a:pt x="26800" y="10800"/>
                </a:lnTo>
                <a:lnTo>
                  <a:pt x="127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304920" y="228600"/>
            <a:ext cx="8610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-AI DESCURCAT EXCELENT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L MAI FRUMOS BRAD ESTE AL TĂU 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6"/>
          <a:stretch/>
        </p:blipFill>
        <p:spPr>
          <a:xfrm>
            <a:off x="6797520" y="4740120"/>
            <a:ext cx="2346480" cy="2117880"/>
          </a:xfrm>
          <a:prstGeom prst="rect">
            <a:avLst/>
          </a:prstGeom>
          <a:ln w="0">
            <a:noFill/>
          </a:ln>
        </p:spPr>
      </p:pic>
      <p:sp>
        <p:nvSpPr>
          <p:cNvPr id="365" name="">
            <a:hlinkClick r:id="" action="ppaction://hlinkshowjump?jump=nextslide"/>
            <a:hlinkClick r:id="rId7"/>
          </p:cNvPr>
          <p:cNvSpPr/>
          <p:nvPr/>
        </p:nvSpPr>
        <p:spPr>
          <a:xfrm>
            <a:off x="7315200" y="5867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 rot="599400">
            <a:off x="2133720" y="2286000"/>
            <a:ext cx="609588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ĂRBĂTORI FERICITE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ŞI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A MULŢI ANI !!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2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96240" cy="518148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533520" y="1219320"/>
            <a:ext cx="1211040" cy="1058760"/>
            <a:chOff x="533520" y="1219320"/>
            <a:chExt cx="1211040" cy="105876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533520" y="1219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38080" y="1676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990720" y="2895480"/>
            <a:ext cx="1211040" cy="1059120"/>
            <a:chOff x="990720" y="2895480"/>
            <a:chExt cx="1211040" cy="1059120"/>
          </a:xfrm>
        </p:grpSpPr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990720" y="28954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295280" y="33526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867280" y="1371600"/>
            <a:ext cx="1211400" cy="1058760"/>
            <a:chOff x="5867280" y="1371600"/>
            <a:chExt cx="1211400" cy="1058760"/>
          </a:xfrm>
        </p:grpSpPr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5867280" y="13716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172200" y="1828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932600" y="3505320"/>
            <a:ext cx="1211400" cy="1058760"/>
            <a:chOff x="7932600" y="3505320"/>
            <a:chExt cx="1211400" cy="1058760"/>
          </a:xfrm>
        </p:grpSpPr>
        <p:pic>
          <p:nvPicPr>
            <p:cNvPr id="140" name="" descr=""/>
            <p:cNvPicPr/>
            <p:nvPr/>
          </p:nvPicPr>
          <p:blipFill>
            <a:blip r:embed="rId5"/>
            <a:stretch/>
          </p:blipFill>
          <p:spPr>
            <a:xfrm>
              <a:off x="7932600" y="350532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237520" y="39621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905120" y="1447920"/>
            <a:ext cx="1211040" cy="1058760"/>
            <a:chOff x="1905120" y="1447920"/>
            <a:chExt cx="1211040" cy="1058760"/>
          </a:xfrm>
        </p:grpSpPr>
        <p:pic>
          <p:nvPicPr>
            <p:cNvPr id="143" name="" descr=""/>
            <p:cNvPicPr/>
            <p:nvPr/>
          </p:nvPicPr>
          <p:blipFill>
            <a:blip r:embed="rId6"/>
            <a:stretch/>
          </p:blipFill>
          <p:spPr>
            <a:xfrm>
              <a:off x="1905120" y="14479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209680" y="19047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553080" y="2971800"/>
            <a:ext cx="1211400" cy="1058760"/>
            <a:chOff x="6553080" y="2971800"/>
            <a:chExt cx="1211400" cy="1058760"/>
          </a:xfrm>
        </p:grpSpPr>
        <p:pic>
          <p:nvPicPr>
            <p:cNvPr id="146" name="" descr=""/>
            <p:cNvPicPr/>
            <p:nvPr/>
          </p:nvPicPr>
          <p:blipFill>
            <a:blip r:embed="rId7"/>
            <a:stretch/>
          </p:blipFill>
          <p:spPr>
            <a:xfrm>
              <a:off x="6553080" y="29718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858000" y="3428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80880" y="4343400"/>
            <a:ext cx="1211400" cy="1058760"/>
            <a:chOff x="380880" y="4343400"/>
            <a:chExt cx="1211400" cy="1058760"/>
          </a:xfrm>
        </p:grpSpPr>
        <p:pic>
          <p:nvPicPr>
            <p:cNvPr id="149" name="" descr=""/>
            <p:cNvPicPr/>
            <p:nvPr/>
          </p:nvPicPr>
          <p:blipFill>
            <a:blip r:embed="rId8"/>
            <a:stretch/>
          </p:blipFill>
          <p:spPr>
            <a:xfrm>
              <a:off x="380880" y="43434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85800" y="4800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696080" y="1600200"/>
            <a:ext cx="1211400" cy="1058760"/>
            <a:chOff x="7696080" y="1600200"/>
            <a:chExt cx="1211400" cy="1058760"/>
          </a:xfrm>
        </p:grpSpPr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7696080" y="16002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8001000" y="2057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>
            <a:off x="1523880" y="2286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e număr este cu 9 mai mare 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cât produsul nemerelor 6 şi 7 ?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4"/>
          <a:stretch/>
        </p:blipFill>
        <p:spPr>
          <a:xfrm>
            <a:off x="6797520" y="4740120"/>
            <a:ext cx="2346480" cy="211788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  <a:hlinkClick r:id="rId15"/>
          </p:cNvPr>
          <p:cNvSpPr/>
          <p:nvPr/>
        </p:nvSpPr>
        <p:spPr>
          <a:xfrm>
            <a:off x="7315200" y="5867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2.5E-006 -4.44444E-006 L 0.30833 -0.25556 E">
                                      <p:cBhvr>
                                        <p:cTn id="3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96240" cy="518148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533520" y="1219320"/>
            <a:ext cx="1211040" cy="1058760"/>
            <a:chOff x="533520" y="1219320"/>
            <a:chExt cx="1211040" cy="105876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533520" y="1219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838080" y="1676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733920" y="1295280"/>
            <a:ext cx="1211040" cy="1059120"/>
            <a:chOff x="3733920" y="1295280"/>
            <a:chExt cx="1211040" cy="1059120"/>
          </a:xfrm>
        </p:grpSpPr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3733920" y="12952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038480" y="17524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67280" y="1371600"/>
            <a:ext cx="1211400" cy="1058760"/>
            <a:chOff x="5867280" y="1371600"/>
            <a:chExt cx="1211400" cy="1058760"/>
          </a:xfrm>
        </p:grpSpPr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5867280" y="13716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172200" y="1828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932600" y="3505320"/>
            <a:ext cx="1211400" cy="1058760"/>
            <a:chOff x="7932600" y="3505320"/>
            <a:chExt cx="1211400" cy="1058760"/>
          </a:xfrm>
        </p:grpSpPr>
        <p:pic>
          <p:nvPicPr>
            <p:cNvPr id="169" name="" descr=""/>
            <p:cNvPicPr/>
            <p:nvPr/>
          </p:nvPicPr>
          <p:blipFill>
            <a:blip r:embed="rId5"/>
            <a:stretch/>
          </p:blipFill>
          <p:spPr>
            <a:xfrm>
              <a:off x="7932600" y="350532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8237520" y="39621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905120" y="1447920"/>
            <a:ext cx="1211040" cy="1058760"/>
            <a:chOff x="1905120" y="1447920"/>
            <a:chExt cx="1211040" cy="1058760"/>
          </a:xfrm>
        </p:grpSpPr>
        <p:pic>
          <p:nvPicPr>
            <p:cNvPr id="172" name="" descr=""/>
            <p:cNvPicPr/>
            <p:nvPr/>
          </p:nvPicPr>
          <p:blipFill>
            <a:blip r:embed="rId6"/>
            <a:stretch/>
          </p:blipFill>
          <p:spPr>
            <a:xfrm>
              <a:off x="1905120" y="14479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209680" y="19047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553080" y="2971800"/>
            <a:ext cx="1211400" cy="1058760"/>
            <a:chOff x="6553080" y="2971800"/>
            <a:chExt cx="1211400" cy="1058760"/>
          </a:xfrm>
        </p:grpSpPr>
        <p:pic>
          <p:nvPicPr>
            <p:cNvPr id="175" name="" descr=""/>
            <p:cNvPicPr/>
            <p:nvPr/>
          </p:nvPicPr>
          <p:blipFill>
            <a:blip r:embed="rId7"/>
            <a:stretch/>
          </p:blipFill>
          <p:spPr>
            <a:xfrm>
              <a:off x="6553080" y="29718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6858000" y="3428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80880" y="4343400"/>
            <a:ext cx="1211400" cy="1058760"/>
            <a:chOff x="380880" y="4343400"/>
            <a:chExt cx="1211400" cy="1058760"/>
          </a:xfrm>
        </p:grpSpPr>
        <p:pic>
          <p:nvPicPr>
            <p:cNvPr id="178" name="" descr=""/>
            <p:cNvPicPr/>
            <p:nvPr/>
          </p:nvPicPr>
          <p:blipFill>
            <a:blip r:embed="rId8"/>
            <a:stretch/>
          </p:blipFill>
          <p:spPr>
            <a:xfrm>
              <a:off x="380880" y="43434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85800" y="4800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696080" y="1600200"/>
            <a:ext cx="1211400" cy="1058760"/>
            <a:chOff x="7696080" y="1600200"/>
            <a:chExt cx="1211400" cy="1058760"/>
          </a:xfrm>
        </p:grpSpPr>
        <p:pic>
          <p:nvPicPr>
            <p:cNvPr id="181" name="" descr=""/>
            <p:cNvPicPr/>
            <p:nvPr/>
          </p:nvPicPr>
          <p:blipFill>
            <a:blip r:embed="rId9"/>
            <a:stretch/>
          </p:blipFill>
          <p:spPr>
            <a:xfrm>
              <a:off x="7696080" y="16002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8001000" y="2057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3" name="" descr=""/>
          <p:cNvPicPr/>
          <p:nvPr/>
        </p:nvPicPr>
        <p:blipFill>
          <a:blip r:embed="rId10"/>
          <a:stretch/>
        </p:blipFill>
        <p:spPr>
          <a:xfrm>
            <a:off x="6797520" y="4740120"/>
            <a:ext cx="2346480" cy="21178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" action="ppaction://hlinkshowjump?jump=nextslide"/>
            <a:hlinkClick r:id="rId11"/>
          </p:cNvPr>
          <p:cNvSpPr/>
          <p:nvPr/>
        </p:nvSpPr>
        <p:spPr>
          <a:xfrm>
            <a:off x="7315200" y="5867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23880" y="2286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e număr este cu 5 mai mare 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cât produsul nemerelor 8 şi 9 ?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-2.77778E-006 5.55556E-006 L -0.35833 -0.15555 E">
                                      <p:cBhvr>
                                        <p:cTn id="13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96240" cy="51814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533520" y="1219320"/>
            <a:ext cx="1211040" cy="1058760"/>
            <a:chOff x="533520" y="1219320"/>
            <a:chExt cx="1211040" cy="1058760"/>
          </a:xfrm>
        </p:grpSpPr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533520" y="1219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38080" y="1676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733920" y="1295280"/>
            <a:ext cx="1211040" cy="1059120"/>
            <a:chOff x="3733920" y="1295280"/>
            <a:chExt cx="1211040" cy="1059120"/>
          </a:xfrm>
        </p:grpSpPr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3733920" y="12952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038480" y="17524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867280" y="1371600"/>
            <a:ext cx="1211400" cy="1058760"/>
            <a:chOff x="5867280" y="1371600"/>
            <a:chExt cx="1211400" cy="1058760"/>
          </a:xfrm>
        </p:grpSpPr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>
              <a:off x="5867280" y="13716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172200" y="1828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495680" y="2438280"/>
            <a:ext cx="1211400" cy="1059120"/>
            <a:chOff x="4495680" y="2438280"/>
            <a:chExt cx="1211400" cy="1059120"/>
          </a:xfrm>
        </p:grpSpPr>
        <p:pic>
          <p:nvPicPr>
            <p:cNvPr id="198" name="" descr=""/>
            <p:cNvPicPr/>
            <p:nvPr/>
          </p:nvPicPr>
          <p:blipFill>
            <a:blip r:embed="rId5"/>
            <a:stretch/>
          </p:blipFill>
          <p:spPr>
            <a:xfrm>
              <a:off x="4495680" y="2438280"/>
              <a:ext cx="12114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800600" y="2895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905120" y="1447920"/>
            <a:ext cx="1211040" cy="1058760"/>
            <a:chOff x="1905120" y="1447920"/>
            <a:chExt cx="1211040" cy="1058760"/>
          </a:xfrm>
        </p:grpSpPr>
        <p:pic>
          <p:nvPicPr>
            <p:cNvPr id="201" name="" descr=""/>
            <p:cNvPicPr/>
            <p:nvPr/>
          </p:nvPicPr>
          <p:blipFill>
            <a:blip r:embed="rId6"/>
            <a:stretch/>
          </p:blipFill>
          <p:spPr>
            <a:xfrm>
              <a:off x="1905120" y="14479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209680" y="19047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553080" y="2971800"/>
            <a:ext cx="1211400" cy="1058760"/>
            <a:chOff x="6553080" y="2971800"/>
            <a:chExt cx="1211400" cy="1058760"/>
          </a:xfrm>
        </p:grpSpPr>
        <p:pic>
          <p:nvPicPr>
            <p:cNvPr id="204" name="" descr=""/>
            <p:cNvPicPr/>
            <p:nvPr/>
          </p:nvPicPr>
          <p:blipFill>
            <a:blip r:embed="rId7"/>
            <a:stretch/>
          </p:blipFill>
          <p:spPr>
            <a:xfrm>
              <a:off x="6553080" y="29718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6858000" y="3428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80880" y="4343400"/>
            <a:ext cx="1211400" cy="1058760"/>
            <a:chOff x="380880" y="4343400"/>
            <a:chExt cx="1211400" cy="1058760"/>
          </a:xfrm>
        </p:grpSpPr>
        <p:pic>
          <p:nvPicPr>
            <p:cNvPr id="207" name="" descr=""/>
            <p:cNvPicPr/>
            <p:nvPr/>
          </p:nvPicPr>
          <p:blipFill>
            <a:blip r:embed="rId8"/>
            <a:stretch/>
          </p:blipFill>
          <p:spPr>
            <a:xfrm>
              <a:off x="380880" y="43434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4800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696080" y="1600200"/>
            <a:ext cx="1211400" cy="1058760"/>
            <a:chOff x="7696080" y="1600200"/>
            <a:chExt cx="1211400" cy="1058760"/>
          </a:xfrm>
        </p:grpSpPr>
        <p:pic>
          <p:nvPicPr>
            <p:cNvPr id="210" name="" descr=""/>
            <p:cNvPicPr/>
            <p:nvPr/>
          </p:nvPicPr>
          <p:blipFill>
            <a:blip r:embed="rId9"/>
            <a:stretch/>
          </p:blipFill>
          <p:spPr>
            <a:xfrm>
              <a:off x="7696080" y="16002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8001000" y="2057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6797520" y="4740120"/>
            <a:ext cx="2346480" cy="211788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  <a:hlinkClick r:id="rId11"/>
          </p:cNvPr>
          <p:cNvSpPr/>
          <p:nvPr/>
        </p:nvSpPr>
        <p:spPr>
          <a:xfrm>
            <a:off x="7315200" y="5867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523880" y="2286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e număr este cu 4 mai mare 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cât produsul nemerelor 9 şi 7 ?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8.33333E-007 -4.44444E-006 L 0.13385 0.12292 E">
                                      <p:cBhvr>
                                        <p:cTn id="190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96240" cy="518148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533520" y="1219320"/>
            <a:ext cx="1211040" cy="1058760"/>
            <a:chOff x="533520" y="1219320"/>
            <a:chExt cx="1211040" cy="1058760"/>
          </a:xfrm>
        </p:grpSpPr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533520" y="1219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38080" y="1676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733920" y="1295280"/>
            <a:ext cx="1211040" cy="1059120"/>
            <a:chOff x="3733920" y="1295280"/>
            <a:chExt cx="1211040" cy="1059120"/>
          </a:xfrm>
        </p:grpSpPr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3733920" y="12952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038480" y="17524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867280" y="1371600"/>
            <a:ext cx="1211400" cy="1058760"/>
            <a:chOff x="5867280" y="1371600"/>
            <a:chExt cx="1211400" cy="1058760"/>
          </a:xfrm>
        </p:grpSpPr>
        <p:pic>
          <p:nvPicPr>
            <p:cNvPr id="224" name="" descr=""/>
            <p:cNvPicPr/>
            <p:nvPr/>
          </p:nvPicPr>
          <p:blipFill>
            <a:blip r:embed="rId4"/>
            <a:stretch/>
          </p:blipFill>
          <p:spPr>
            <a:xfrm>
              <a:off x="5867280" y="13716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172200" y="1828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495680" y="2438280"/>
            <a:ext cx="1211400" cy="1059120"/>
            <a:chOff x="4495680" y="2438280"/>
            <a:chExt cx="1211400" cy="1059120"/>
          </a:xfrm>
        </p:grpSpPr>
        <p:pic>
          <p:nvPicPr>
            <p:cNvPr id="227" name="" descr=""/>
            <p:cNvPicPr/>
            <p:nvPr/>
          </p:nvPicPr>
          <p:blipFill>
            <a:blip r:embed="rId5"/>
            <a:stretch/>
          </p:blipFill>
          <p:spPr>
            <a:xfrm>
              <a:off x="4495680" y="2438280"/>
              <a:ext cx="12114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800600" y="2895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048120" y="2362320"/>
            <a:ext cx="1211040" cy="1058760"/>
            <a:chOff x="3048120" y="2362320"/>
            <a:chExt cx="1211040" cy="1058760"/>
          </a:xfrm>
        </p:grpSpPr>
        <p:pic>
          <p:nvPicPr>
            <p:cNvPr id="230" name="" descr=""/>
            <p:cNvPicPr/>
            <p:nvPr/>
          </p:nvPicPr>
          <p:blipFill>
            <a:blip r:embed="rId6"/>
            <a:stretch/>
          </p:blipFill>
          <p:spPr>
            <a:xfrm>
              <a:off x="3048120" y="2362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352680" y="2819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553080" y="2971800"/>
            <a:ext cx="1211400" cy="1058760"/>
            <a:chOff x="6553080" y="2971800"/>
            <a:chExt cx="1211400" cy="1058760"/>
          </a:xfrm>
        </p:grpSpPr>
        <p:pic>
          <p:nvPicPr>
            <p:cNvPr id="233" name="" descr=""/>
            <p:cNvPicPr/>
            <p:nvPr/>
          </p:nvPicPr>
          <p:blipFill>
            <a:blip r:embed="rId7"/>
            <a:stretch/>
          </p:blipFill>
          <p:spPr>
            <a:xfrm>
              <a:off x="6553080" y="29718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858000" y="3428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80880" y="4343400"/>
            <a:ext cx="1211400" cy="1058760"/>
            <a:chOff x="380880" y="4343400"/>
            <a:chExt cx="1211400" cy="1058760"/>
          </a:xfrm>
        </p:grpSpPr>
        <p:pic>
          <p:nvPicPr>
            <p:cNvPr id="236" name="" descr=""/>
            <p:cNvPicPr/>
            <p:nvPr/>
          </p:nvPicPr>
          <p:blipFill>
            <a:blip r:embed="rId8"/>
            <a:stretch/>
          </p:blipFill>
          <p:spPr>
            <a:xfrm>
              <a:off x="380880" y="43434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685800" y="4800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96080" y="1600200"/>
            <a:ext cx="1211400" cy="1058760"/>
            <a:chOff x="7696080" y="1600200"/>
            <a:chExt cx="1211400" cy="1058760"/>
          </a:xfrm>
        </p:grpSpPr>
        <p:pic>
          <p:nvPicPr>
            <p:cNvPr id="239" name="" descr=""/>
            <p:cNvPicPr/>
            <p:nvPr/>
          </p:nvPicPr>
          <p:blipFill>
            <a:blip r:embed="rId9"/>
            <a:stretch/>
          </p:blipFill>
          <p:spPr>
            <a:xfrm>
              <a:off x="7696080" y="16002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001000" y="2057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1" name="" descr=""/>
          <p:cNvPicPr/>
          <p:nvPr/>
        </p:nvPicPr>
        <p:blipFill>
          <a:blip r:embed="rId10"/>
          <a:stretch/>
        </p:blipFill>
        <p:spPr>
          <a:xfrm>
            <a:off x="6797520" y="4740120"/>
            <a:ext cx="2346480" cy="21178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nextslide"/>
            <a:hlinkClick r:id="rId11"/>
          </p:cNvPr>
          <p:cNvSpPr/>
          <p:nvPr/>
        </p:nvSpPr>
        <p:spPr>
          <a:xfrm>
            <a:off x="7315200" y="5867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23880" y="2286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e număr este cu  11 mai mic 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cât produsul nemerelor  8 şi  8 ?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6"/>
          <a:stretch/>
        </p:blipFill>
        <p:spPr>
          <a:xfrm>
            <a:off x="441972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-2.5E-006 -3.33333E-006 L -0.11614 0.35625 E">
                                      <p:cBhvr>
                                        <p:cTn id="230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96240" cy="5181480"/>
          </a:xfrm>
          <a:prstGeom prst="rect">
            <a:avLst/>
          </a:prstGeom>
          <a:ln w="0">
            <a:noFill/>
          </a:ln>
        </p:spPr>
      </p:pic>
      <p:grpSp>
        <p:nvGrpSpPr>
          <p:cNvPr id="246" name=""/>
          <p:cNvGrpSpPr/>
          <p:nvPr/>
        </p:nvGrpSpPr>
        <p:grpSpPr>
          <a:xfrm>
            <a:off x="533520" y="1219320"/>
            <a:ext cx="1211040" cy="1058760"/>
            <a:chOff x="533520" y="1219320"/>
            <a:chExt cx="1211040" cy="105876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533520" y="1219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838080" y="1676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733920" y="1295280"/>
            <a:ext cx="1211040" cy="1059120"/>
            <a:chOff x="3733920" y="1295280"/>
            <a:chExt cx="1211040" cy="1059120"/>
          </a:xfrm>
        </p:grpSpPr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3733920" y="12952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038480" y="17524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809880"/>
            <a:ext cx="1211040" cy="1059120"/>
            <a:chOff x="4876920" y="3809880"/>
            <a:chExt cx="1211040" cy="1059120"/>
          </a:xfrm>
        </p:grpSpPr>
        <p:pic>
          <p:nvPicPr>
            <p:cNvPr id="253" name="" descr=""/>
            <p:cNvPicPr/>
            <p:nvPr/>
          </p:nvPicPr>
          <p:blipFill>
            <a:blip r:embed="rId4"/>
            <a:stretch/>
          </p:blipFill>
          <p:spPr>
            <a:xfrm>
              <a:off x="4876920" y="38098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181480" y="42670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495680" y="2438280"/>
            <a:ext cx="1211400" cy="1059120"/>
            <a:chOff x="4495680" y="2438280"/>
            <a:chExt cx="1211400" cy="1059120"/>
          </a:xfrm>
        </p:grpSpPr>
        <p:pic>
          <p:nvPicPr>
            <p:cNvPr id="256" name="" descr=""/>
            <p:cNvPicPr/>
            <p:nvPr/>
          </p:nvPicPr>
          <p:blipFill>
            <a:blip r:embed="rId5"/>
            <a:stretch/>
          </p:blipFill>
          <p:spPr>
            <a:xfrm>
              <a:off x="4495680" y="2438280"/>
              <a:ext cx="12114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800600" y="2895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048120" y="2362320"/>
            <a:ext cx="1211040" cy="1058760"/>
            <a:chOff x="3048120" y="2362320"/>
            <a:chExt cx="1211040" cy="1058760"/>
          </a:xfrm>
        </p:grpSpPr>
        <p:pic>
          <p:nvPicPr>
            <p:cNvPr id="259" name="" descr=""/>
            <p:cNvPicPr/>
            <p:nvPr/>
          </p:nvPicPr>
          <p:blipFill>
            <a:blip r:embed="rId6"/>
            <a:stretch/>
          </p:blipFill>
          <p:spPr>
            <a:xfrm>
              <a:off x="3048120" y="2362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352680" y="2819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553080" y="2971800"/>
            <a:ext cx="1211400" cy="1058760"/>
            <a:chOff x="6553080" y="2971800"/>
            <a:chExt cx="1211400" cy="1058760"/>
          </a:xfrm>
        </p:grpSpPr>
        <p:pic>
          <p:nvPicPr>
            <p:cNvPr id="262" name="" descr=""/>
            <p:cNvPicPr/>
            <p:nvPr/>
          </p:nvPicPr>
          <p:blipFill>
            <a:blip r:embed="rId7"/>
            <a:stretch/>
          </p:blipFill>
          <p:spPr>
            <a:xfrm>
              <a:off x="6553080" y="29718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6858000" y="3428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80880" y="4343400"/>
            <a:ext cx="1211400" cy="1058760"/>
            <a:chOff x="380880" y="4343400"/>
            <a:chExt cx="1211400" cy="1058760"/>
          </a:xfrm>
        </p:grpSpPr>
        <p:pic>
          <p:nvPicPr>
            <p:cNvPr id="265" name="" descr=""/>
            <p:cNvPicPr/>
            <p:nvPr/>
          </p:nvPicPr>
          <p:blipFill>
            <a:blip r:embed="rId8"/>
            <a:stretch/>
          </p:blipFill>
          <p:spPr>
            <a:xfrm>
              <a:off x="380880" y="43434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85800" y="4800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7696080" y="1600200"/>
            <a:ext cx="1211400" cy="1058760"/>
            <a:chOff x="7696080" y="1600200"/>
            <a:chExt cx="1211400" cy="1058760"/>
          </a:xfrm>
        </p:grpSpPr>
        <p:pic>
          <p:nvPicPr>
            <p:cNvPr id="268" name="" descr=""/>
            <p:cNvPicPr/>
            <p:nvPr/>
          </p:nvPicPr>
          <p:blipFill>
            <a:blip r:embed="rId9"/>
            <a:stretch/>
          </p:blipFill>
          <p:spPr>
            <a:xfrm>
              <a:off x="7696080" y="16002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001000" y="2057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10"/>
          <a:stretch/>
        </p:blipFill>
        <p:spPr>
          <a:xfrm>
            <a:off x="6797520" y="4740120"/>
            <a:ext cx="2346480" cy="211788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" action="ppaction://hlinkshowjump?jump=nextslide"/>
            <a:hlinkClick r:id="rId11"/>
          </p:cNvPr>
          <p:cNvSpPr/>
          <p:nvPr/>
        </p:nvSpPr>
        <p:spPr>
          <a:xfrm>
            <a:off x="7315200" y="5867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523880" y="2286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e număr este cu 4 mai mic 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cât produsul nemerelor  3 şi 7 ?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6"/>
          <a:stretch/>
        </p:blipFill>
        <p:spPr>
          <a:xfrm>
            <a:off x="441972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-2.5E-006 3.33333E-006 L -0.41614 0.1118 E">
                                      <p:cBhvr>
                                        <p:cTn id="276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96240" cy="518148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533520" y="1219320"/>
            <a:ext cx="1211040" cy="1058760"/>
            <a:chOff x="533520" y="1219320"/>
            <a:chExt cx="1211040" cy="10587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533520" y="1219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838080" y="1676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733920" y="1295280"/>
            <a:ext cx="1211040" cy="1059120"/>
            <a:chOff x="3733920" y="1295280"/>
            <a:chExt cx="1211040" cy="1059120"/>
          </a:xfrm>
        </p:grpSpPr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3733920" y="12952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038480" y="17524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876920" y="3809880"/>
            <a:ext cx="1211040" cy="1059120"/>
            <a:chOff x="4876920" y="3809880"/>
            <a:chExt cx="1211040" cy="1059120"/>
          </a:xfrm>
        </p:grpSpPr>
        <p:pic>
          <p:nvPicPr>
            <p:cNvPr id="282" name="" descr=""/>
            <p:cNvPicPr/>
            <p:nvPr/>
          </p:nvPicPr>
          <p:blipFill>
            <a:blip r:embed="rId4"/>
            <a:stretch/>
          </p:blipFill>
          <p:spPr>
            <a:xfrm>
              <a:off x="4876920" y="38098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181480" y="42670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495680" y="2438280"/>
            <a:ext cx="1211400" cy="1059120"/>
            <a:chOff x="4495680" y="2438280"/>
            <a:chExt cx="1211400" cy="1059120"/>
          </a:xfrm>
        </p:grpSpPr>
        <p:pic>
          <p:nvPicPr>
            <p:cNvPr id="285" name="" descr=""/>
            <p:cNvPicPr/>
            <p:nvPr/>
          </p:nvPicPr>
          <p:blipFill>
            <a:blip r:embed="rId5"/>
            <a:stretch/>
          </p:blipFill>
          <p:spPr>
            <a:xfrm>
              <a:off x="4495680" y="2438280"/>
              <a:ext cx="12114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800600" y="2895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048120" y="2362320"/>
            <a:ext cx="1211040" cy="1058760"/>
            <a:chOff x="3048120" y="2362320"/>
            <a:chExt cx="1211040" cy="1058760"/>
          </a:xfrm>
        </p:grpSpPr>
        <p:pic>
          <p:nvPicPr>
            <p:cNvPr id="288" name="" descr=""/>
            <p:cNvPicPr/>
            <p:nvPr/>
          </p:nvPicPr>
          <p:blipFill>
            <a:blip r:embed="rId6"/>
            <a:stretch/>
          </p:blipFill>
          <p:spPr>
            <a:xfrm>
              <a:off x="3048120" y="2362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3352680" y="2819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895480" y="3809880"/>
            <a:ext cx="1211400" cy="1059120"/>
            <a:chOff x="2895480" y="3809880"/>
            <a:chExt cx="1211400" cy="1059120"/>
          </a:xfrm>
        </p:grpSpPr>
        <p:pic>
          <p:nvPicPr>
            <p:cNvPr id="291" name="" descr=""/>
            <p:cNvPicPr/>
            <p:nvPr/>
          </p:nvPicPr>
          <p:blipFill>
            <a:blip r:embed="rId7"/>
            <a:stretch/>
          </p:blipFill>
          <p:spPr>
            <a:xfrm>
              <a:off x="2895480" y="3809880"/>
              <a:ext cx="12114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3200400" y="4267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80880" y="4343400"/>
            <a:ext cx="1211400" cy="1058760"/>
            <a:chOff x="380880" y="4343400"/>
            <a:chExt cx="1211400" cy="1058760"/>
          </a:xfrm>
        </p:grpSpPr>
        <p:pic>
          <p:nvPicPr>
            <p:cNvPr id="294" name="" descr=""/>
            <p:cNvPicPr/>
            <p:nvPr/>
          </p:nvPicPr>
          <p:blipFill>
            <a:blip r:embed="rId8"/>
            <a:stretch/>
          </p:blipFill>
          <p:spPr>
            <a:xfrm>
              <a:off x="380880" y="43434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85800" y="4800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696080" y="1600200"/>
            <a:ext cx="1211400" cy="1058760"/>
            <a:chOff x="7696080" y="1600200"/>
            <a:chExt cx="1211400" cy="1058760"/>
          </a:xfrm>
        </p:grpSpPr>
        <p:pic>
          <p:nvPicPr>
            <p:cNvPr id="297" name="" descr=""/>
            <p:cNvPicPr/>
            <p:nvPr/>
          </p:nvPicPr>
          <p:blipFill>
            <a:blip r:embed="rId9"/>
            <a:stretch/>
          </p:blipFill>
          <p:spPr>
            <a:xfrm>
              <a:off x="7696080" y="16002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8001000" y="2057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0"/>
          <a:stretch/>
        </p:blipFill>
        <p:spPr>
          <a:xfrm>
            <a:off x="6797520" y="4740120"/>
            <a:ext cx="2346480" cy="211788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" action="ppaction://hlinkshowjump?jump=nextslide"/>
            <a:hlinkClick r:id="rId11"/>
          </p:cNvPr>
          <p:cNvSpPr/>
          <p:nvPr/>
        </p:nvSpPr>
        <p:spPr>
          <a:xfrm>
            <a:off x="7315200" y="5867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523880" y="2286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e număr este cu 26 mai mic 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cât produsul nemerelor  9 şi 9 ?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-8.33333E-007 -6.93889E-018 L 0.525 0.11111 E">
                                      <p:cBhvr>
                                        <p:cTn id="310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96240" cy="518148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533520" y="1219320"/>
            <a:ext cx="1211040" cy="1058760"/>
            <a:chOff x="533520" y="1219320"/>
            <a:chExt cx="1211040" cy="1058760"/>
          </a:xfrm>
        </p:grpSpPr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533520" y="1219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838080" y="1676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733920" y="1295280"/>
            <a:ext cx="1211040" cy="1059120"/>
            <a:chOff x="3733920" y="1295280"/>
            <a:chExt cx="1211040" cy="1059120"/>
          </a:xfrm>
        </p:grpSpPr>
        <p:pic>
          <p:nvPicPr>
            <p:cNvPr id="308" name="" descr=""/>
            <p:cNvPicPr/>
            <p:nvPr/>
          </p:nvPicPr>
          <p:blipFill>
            <a:blip r:embed="rId3"/>
            <a:stretch/>
          </p:blipFill>
          <p:spPr>
            <a:xfrm>
              <a:off x="3733920" y="12952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038480" y="17524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876920" y="3809880"/>
            <a:ext cx="1211040" cy="1059120"/>
            <a:chOff x="4876920" y="3809880"/>
            <a:chExt cx="1211040" cy="1059120"/>
          </a:xfrm>
        </p:grpSpPr>
        <p:pic>
          <p:nvPicPr>
            <p:cNvPr id="311" name="" descr=""/>
            <p:cNvPicPr/>
            <p:nvPr/>
          </p:nvPicPr>
          <p:blipFill>
            <a:blip r:embed="rId4"/>
            <a:stretch/>
          </p:blipFill>
          <p:spPr>
            <a:xfrm>
              <a:off x="4876920" y="38098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5181480" y="42670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495680" y="2438280"/>
            <a:ext cx="1211400" cy="1059120"/>
            <a:chOff x="4495680" y="2438280"/>
            <a:chExt cx="1211400" cy="1059120"/>
          </a:xfrm>
        </p:grpSpPr>
        <p:pic>
          <p:nvPicPr>
            <p:cNvPr id="314" name="" descr=""/>
            <p:cNvPicPr/>
            <p:nvPr/>
          </p:nvPicPr>
          <p:blipFill>
            <a:blip r:embed="rId5"/>
            <a:stretch/>
          </p:blipFill>
          <p:spPr>
            <a:xfrm>
              <a:off x="4495680" y="2438280"/>
              <a:ext cx="12114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800600" y="2895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048120" y="2362320"/>
            <a:ext cx="1211040" cy="1058760"/>
            <a:chOff x="3048120" y="2362320"/>
            <a:chExt cx="1211040" cy="1058760"/>
          </a:xfrm>
        </p:grpSpPr>
        <p:pic>
          <p:nvPicPr>
            <p:cNvPr id="317" name="" descr=""/>
            <p:cNvPicPr/>
            <p:nvPr/>
          </p:nvPicPr>
          <p:blipFill>
            <a:blip r:embed="rId6"/>
            <a:stretch/>
          </p:blipFill>
          <p:spPr>
            <a:xfrm>
              <a:off x="3048120" y="2362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352680" y="2819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895480" y="3809880"/>
            <a:ext cx="1211400" cy="1059120"/>
            <a:chOff x="2895480" y="3809880"/>
            <a:chExt cx="1211400" cy="1059120"/>
          </a:xfrm>
        </p:grpSpPr>
        <p:pic>
          <p:nvPicPr>
            <p:cNvPr id="320" name="" descr=""/>
            <p:cNvPicPr/>
            <p:nvPr/>
          </p:nvPicPr>
          <p:blipFill>
            <a:blip r:embed="rId7"/>
            <a:stretch/>
          </p:blipFill>
          <p:spPr>
            <a:xfrm>
              <a:off x="2895480" y="3809880"/>
              <a:ext cx="12114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3200400" y="4267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62720" y="5029200"/>
            <a:ext cx="1211040" cy="1058760"/>
            <a:chOff x="5562720" y="5029200"/>
            <a:chExt cx="1211040" cy="1058760"/>
          </a:xfrm>
        </p:grpSpPr>
        <p:pic>
          <p:nvPicPr>
            <p:cNvPr id="323" name="" descr=""/>
            <p:cNvPicPr/>
            <p:nvPr/>
          </p:nvPicPr>
          <p:blipFill>
            <a:blip r:embed="rId8"/>
            <a:stretch/>
          </p:blipFill>
          <p:spPr>
            <a:xfrm>
              <a:off x="5562720" y="502920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5867280" y="548604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696080" y="1600200"/>
            <a:ext cx="1211400" cy="1058760"/>
            <a:chOff x="7696080" y="1600200"/>
            <a:chExt cx="1211400" cy="1058760"/>
          </a:xfrm>
        </p:grpSpPr>
        <p:pic>
          <p:nvPicPr>
            <p:cNvPr id="326" name="" descr=""/>
            <p:cNvPicPr/>
            <p:nvPr/>
          </p:nvPicPr>
          <p:blipFill>
            <a:blip r:embed="rId9"/>
            <a:stretch/>
          </p:blipFill>
          <p:spPr>
            <a:xfrm>
              <a:off x="7696080" y="16002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8001000" y="2057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0"/>
          <a:stretch/>
        </p:blipFill>
        <p:spPr>
          <a:xfrm>
            <a:off x="6797520" y="4740120"/>
            <a:ext cx="2346480" cy="2117880"/>
          </a:xfrm>
          <a:prstGeom prst="rect">
            <a:avLst/>
          </a:prstGeom>
          <a:ln w="0">
            <a:noFill/>
          </a:ln>
        </p:spPr>
      </p:pic>
      <p:sp>
        <p:nvSpPr>
          <p:cNvPr id="329" name="">
            <a:hlinkClick r:id="" action="ppaction://hlinkshowjump?jump=nextslide"/>
            <a:hlinkClick r:id="rId11"/>
          </p:cNvPr>
          <p:cNvSpPr/>
          <p:nvPr/>
        </p:nvSpPr>
        <p:spPr>
          <a:xfrm>
            <a:off x="7315200" y="5867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523880" y="2286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e număr este cu 6 mai mic 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cât produsul nemerelor  6 şi 5?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8.33333E-007 -1.11111E-006 L 0.37552 0.48958 E">
                                      <p:cBhvr>
                                        <p:cTn id="338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96240" cy="518148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3809880" y="4648320"/>
            <a:ext cx="1211400" cy="1058760"/>
            <a:chOff x="3809880" y="4648320"/>
            <a:chExt cx="1211400" cy="105876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3809880" y="464832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4114800" y="51051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733920" y="1295280"/>
            <a:ext cx="1211040" cy="1059120"/>
            <a:chOff x="3733920" y="1295280"/>
            <a:chExt cx="1211040" cy="1059120"/>
          </a:xfrm>
        </p:grpSpPr>
        <p:pic>
          <p:nvPicPr>
            <p:cNvPr id="337" name="" descr=""/>
            <p:cNvPicPr/>
            <p:nvPr/>
          </p:nvPicPr>
          <p:blipFill>
            <a:blip r:embed="rId3"/>
            <a:stretch/>
          </p:blipFill>
          <p:spPr>
            <a:xfrm>
              <a:off x="3733920" y="12952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038480" y="17524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876920" y="3809880"/>
            <a:ext cx="1211040" cy="1059120"/>
            <a:chOff x="4876920" y="3809880"/>
            <a:chExt cx="1211040" cy="1059120"/>
          </a:xfrm>
        </p:grpSpPr>
        <p:pic>
          <p:nvPicPr>
            <p:cNvPr id="340" name="" descr=""/>
            <p:cNvPicPr/>
            <p:nvPr/>
          </p:nvPicPr>
          <p:blipFill>
            <a:blip r:embed="rId4"/>
            <a:stretch/>
          </p:blipFill>
          <p:spPr>
            <a:xfrm>
              <a:off x="4876920" y="38098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181480" y="42670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495680" y="2438280"/>
            <a:ext cx="1211400" cy="1059120"/>
            <a:chOff x="4495680" y="2438280"/>
            <a:chExt cx="1211400" cy="1059120"/>
          </a:xfrm>
        </p:grpSpPr>
        <p:pic>
          <p:nvPicPr>
            <p:cNvPr id="343" name="" descr=""/>
            <p:cNvPicPr/>
            <p:nvPr/>
          </p:nvPicPr>
          <p:blipFill>
            <a:blip r:embed="rId5"/>
            <a:stretch/>
          </p:blipFill>
          <p:spPr>
            <a:xfrm>
              <a:off x="4495680" y="2438280"/>
              <a:ext cx="12114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4800600" y="2895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048120" y="2362320"/>
            <a:ext cx="1211040" cy="1058760"/>
            <a:chOff x="3048120" y="2362320"/>
            <a:chExt cx="1211040" cy="1058760"/>
          </a:xfrm>
        </p:grpSpPr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3048120" y="2362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3352680" y="2819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895480" y="3809880"/>
            <a:ext cx="1211400" cy="1059120"/>
            <a:chOff x="2895480" y="3809880"/>
            <a:chExt cx="1211400" cy="1059120"/>
          </a:xfrm>
        </p:grpSpPr>
        <p:pic>
          <p:nvPicPr>
            <p:cNvPr id="349" name="" descr=""/>
            <p:cNvPicPr/>
            <p:nvPr/>
          </p:nvPicPr>
          <p:blipFill>
            <a:blip r:embed="rId7"/>
            <a:stretch/>
          </p:blipFill>
          <p:spPr>
            <a:xfrm>
              <a:off x="2895480" y="3809880"/>
              <a:ext cx="12114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3200400" y="4267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562720" y="5029200"/>
            <a:ext cx="1211040" cy="1058760"/>
            <a:chOff x="5562720" y="5029200"/>
            <a:chExt cx="1211040" cy="1058760"/>
          </a:xfrm>
        </p:grpSpPr>
        <p:pic>
          <p:nvPicPr>
            <p:cNvPr id="352" name="" descr=""/>
            <p:cNvPicPr/>
            <p:nvPr/>
          </p:nvPicPr>
          <p:blipFill>
            <a:blip r:embed="rId8"/>
            <a:stretch/>
          </p:blipFill>
          <p:spPr>
            <a:xfrm>
              <a:off x="5562720" y="502920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867280" y="548604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7696080" y="1600200"/>
            <a:ext cx="1211400" cy="1058760"/>
            <a:chOff x="7696080" y="1600200"/>
            <a:chExt cx="1211400" cy="1058760"/>
          </a:xfrm>
        </p:grpSpPr>
        <p:pic>
          <p:nvPicPr>
            <p:cNvPr id="355" name="" descr=""/>
            <p:cNvPicPr/>
            <p:nvPr/>
          </p:nvPicPr>
          <p:blipFill>
            <a:blip r:embed="rId9"/>
            <a:stretch/>
          </p:blipFill>
          <p:spPr>
            <a:xfrm>
              <a:off x="7696080" y="16002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8001000" y="2057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7" name="" descr=""/>
          <p:cNvPicPr/>
          <p:nvPr/>
        </p:nvPicPr>
        <p:blipFill>
          <a:blip r:embed="rId10"/>
          <a:stretch/>
        </p:blipFill>
        <p:spPr>
          <a:xfrm>
            <a:off x="6797520" y="4740120"/>
            <a:ext cx="2346480" cy="2117880"/>
          </a:xfrm>
          <a:prstGeom prst="rect">
            <a:avLst/>
          </a:prstGeom>
          <a:ln w="0">
            <a:noFill/>
          </a:ln>
        </p:spPr>
      </p:pic>
      <p:sp>
        <p:nvSpPr>
          <p:cNvPr id="358" name="">
            <a:hlinkClick r:id="" action="ppaction://hlinkshowjump?jump=nextslide"/>
            <a:hlinkClick r:id="rId11"/>
          </p:cNvPr>
          <p:cNvSpPr/>
          <p:nvPr/>
        </p:nvSpPr>
        <p:spPr>
          <a:xfrm>
            <a:off x="7315200" y="5867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523880" y="2286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e număr este cu 22 mai mic 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cât produsul nemerelor  10 şi 7 ?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1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-0.10781 0.07847 L -0.64948 0.48958 E">
                                      <p:cBhvr>
                                        <p:cTn id="360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1:40:50Z</dcterms:created>
  <dc:creator>sa</dc:creator>
  <dc:description/>
  <dc:language>en-US</dc:language>
  <cp:lastModifiedBy>sa</cp:lastModifiedBy>
  <dcterms:modified xsi:type="dcterms:W3CDTF">2008-12-16T19:04:38Z</dcterms:modified>
  <cp:revision>15</cp:revision>
  <dc:subject/>
  <dc:title>1. dia</dc:title>
</cp:coreProperties>
</file>